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rrow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STRY RESOURCE 9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ALI. BLL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DBA0-8399-4F94-AFB4-0B784EB35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LUTIONS &amp;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UTION OF SODIUM CHLORIDE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AT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 a homogeneous mixture containing particles the size of a typical ion or covalent molecule. (0.1–2.0 nm in diame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oid: a homogeneous mixture containing particles with diameters in the range 2–50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pensions are mixtures with even larger particles, but they are not considered true solutions because they separate upon sta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e: the dissolved substance in a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: the major component in a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lution is saturated when no additional solute can be dissolved at a particular tempera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persaturated solution can form when more than the equilibrium amount of solute is dissolved at an elevated temperature, and then the supersaturated solution is slowly coo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nsaturated solution is formed when more of the solute can dissolve in it at a particular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S OF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solute per unit solvent required to form a saturated solution is called the solute's Solu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liquids are completely soluble in each other they are said to be Misc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ility is effected by Temperature. With increase in temperature solubility of most of the substances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gases become less soluble in water as the temperatur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ILITY GRAPH OF SALT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BILITY GRAPH OF SALTS IN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BILITY GRAPH OF SALTS IN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BILITY GRAPH OF SALTS IN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ILITY GRAPH OF GASE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has little effect on the solubility of liquids and solids. The solubility of gases is strongly influenced by pressure. Gases dissolve more at high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ILITY OF COMMON ION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1C06-46EA-4F88-A610-78BE6B5FA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24F1-7A7B-49B9-A5D5-22FD1EA7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3A07-B8C7-45E6-9951-687D56432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6978-8585-459E-A166-DBD5A7876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22CD3-C5A1-44E7-8DDD-C51F44CDF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3E08F-F439-4E59-BE33-7617FD93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0F63B-00A0-4CDC-AAC3-CEC22337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925A3-73F0-4CFB-9785-95FA97C4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25FDF-E91B-4208-9A20-621D318A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6455D1-E6C4-43CD-BB9A-30B9F145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7B4C3-A110-48FF-8BB7-DCBB7ED6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BBA7-4732-407E-B10C-B70137D3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95788-E70C-4219-820B-11DE3A7E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E36C1-F627-4C7D-8C82-868A79ED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F0509-120A-41E0-99FA-CAC40553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79F87-771B-4D26-9761-1ED1A040E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0B422-1697-44E3-BC1C-703D9597A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2CDD-9ED3-4B74-9B57-80F5F87F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4E91-3DA3-4D00-9D83-16D159D6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7496-2CA6-4CA7-BF41-C3255B09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7070-E5D7-4446-9FD0-FB31D85A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B623-45DC-466C-AAAD-BDF86004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414E-DA0E-436A-A1CA-AE43C987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384B-6B3B-412F-873B-F5ACB2C2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63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a3d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C9E6-394B-4E39-9CCA-3D78091C932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6A38-E3B1-4286-AC2B-6351ADE1B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63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a3d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F3F5-92A1-4610-A3A3-14A93F7DC3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8AF0-1830-48A3-96B2-6B61A811CCAA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SOLUTIONS &amp; SOLUBILITIES</a:t>
            </a:r>
            <a:endParaRPr b="0" lang="en-US" sz="40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00200" y="611892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D15D-5DEE-41FA-81B2-8AEA09A4C5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4" descr="-1-5-"/>
          <p:cNvPicPr/>
          <p:nvPr/>
        </p:nvPicPr>
        <p:blipFill>
          <a:blip r:embed="rId1"/>
          <a:srcRect l="0" t="9828" r="0" b="0"/>
          <a:stretch/>
        </p:blipFill>
        <p:spPr>
          <a:xfrm>
            <a:off x="1600200" y="1143000"/>
            <a:ext cx="6161040" cy="5040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DISSOLUTION OF SODIUM CHLORIDE IN WATER</a:t>
            </a:r>
            <a:endParaRPr b="0" lang="en-US" sz="2800" spc="-1" strike="noStrike">
              <a:solidFill>
                <a:srgbClr val="c5d1d7"/>
              </a:solidFill>
              <a:latin typeface="Tahoma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FE2E-441D-4322-B986-C1754F25F8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DONATED 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MUHAMMAD AL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To www.worldofteaching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8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9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198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9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0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204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08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210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212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13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14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216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17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2800"/>
                            </p:stCondLst>
                            <p:childTnLst>
                              <p:par>
                                <p:cTn id="219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20" dur="2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4800"/>
                            </p:stCondLst>
                            <p:childTnLst>
                              <p:par>
                                <p:cTn id="222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23" dur="2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B3B5-CEE8-4BEB-AD04-5C6F6EC527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TERMS 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Solution: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 a homogeneous mixture containing particles the size of a typical ion or covalent molecule. (0.1–2.0 nm in diamete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Colloid: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 a homogeneous mixture containing particles with diameters in the range 2–500 n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Suspensions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 are mixtures with even larger particles, but they are not considered true solutions because they separate upon stand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Solute: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 the dissolved substance in a s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Solvent: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 the major component in a s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43E8-133B-48B7-8D9F-3736899E1E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-360" y="9903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A solution is </a:t>
            </a:r>
            <a:r>
              <a:rPr b="1" lang="en-US" sz="3200" spc="-1" strike="noStrike">
                <a:solidFill>
                  <a:srgbClr val="ff33cc"/>
                </a:solidFill>
                <a:latin typeface="Tahoma"/>
              </a:rPr>
              <a:t>saturated</a:t>
            </a: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 when no additional solute can be dissolved at a particular temperatu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A </a:t>
            </a:r>
            <a:r>
              <a:rPr b="1" lang="en-US" sz="3200" spc="-1" strike="noStrike">
                <a:solidFill>
                  <a:srgbClr val="ff33cc"/>
                </a:solidFill>
                <a:latin typeface="Tahoma"/>
              </a:rPr>
              <a:t>Supersaturated </a:t>
            </a: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solution can form when more than the equilibrium amount of solute is dissolved at an elevated temperature, and then the supersaturated solution is slowly cool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An </a:t>
            </a:r>
            <a:r>
              <a:rPr b="1" lang="en-US" sz="3200" spc="-1" strike="noStrike">
                <a:solidFill>
                  <a:srgbClr val="ff33cc"/>
                </a:solidFill>
                <a:latin typeface="Tahoma"/>
              </a:rPr>
              <a:t>Unsaturated</a:t>
            </a: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 solution is formed when more of the solute can dissolve in it at a particular temperat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d"/>
    <p:sndAc>
      <p:stSnd>
        <p:snd r:embed="rId1" name="arrow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F98D-8B40-4361-859C-F46D4FE004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KINDS OF SOLUTIONS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pic>
        <p:nvPicPr>
          <p:cNvPr id="102" name="Picture 4" descr="table11_1"/>
          <p:cNvPicPr/>
          <p:nvPr/>
        </p:nvPicPr>
        <p:blipFill>
          <a:blip r:embed="rId1"/>
          <a:srcRect l="0" t="12549" r="0" b="0"/>
          <a:stretch/>
        </p:blipFill>
        <p:spPr>
          <a:xfrm>
            <a:off x="228600" y="1447920"/>
            <a:ext cx="8915400" cy="4724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68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68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2FDC-2EAD-4055-991D-3DC7EC5336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380880" y="304920"/>
          <a:ext cx="8458200" cy="57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845820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5118-F86F-4170-99F3-0999379324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Tahoma"/>
              </a:rPr>
              <a:t>SOLUBILITY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The amount of solute per unit solvent required to form a saturated solution is called the solute's </a:t>
            </a:r>
            <a:r>
              <a:rPr b="1" lang="en-US" sz="3200" spc="-1" strike="noStrike">
                <a:solidFill>
                  <a:srgbClr val="ff33cc"/>
                </a:solidFill>
                <a:latin typeface="Tahoma"/>
              </a:rPr>
              <a:t>Solub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When two liquids are completely soluble in each other they are said to be </a:t>
            </a:r>
            <a:r>
              <a:rPr b="1" lang="en-US" sz="3200" spc="-1" strike="noStrike">
                <a:solidFill>
                  <a:srgbClr val="ff33cc"/>
                </a:solidFill>
                <a:latin typeface="Tahoma"/>
              </a:rPr>
              <a:t>Miscible</a:t>
            </a: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Solubility is effected by Temperature. With increase in temperature solubility of most of the substances increa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Most gases become less soluble in water as the temperature increa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5228-7994-431C-BC8D-DDAA6BE0CC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SOLUBILITY GRAPH OF SALTS IN WATER</a:t>
            </a:r>
            <a:endParaRPr b="0" lang="en-US" sz="3200" spc="-1" strike="noStrike">
              <a:solidFill>
                <a:srgbClr val="c5d1d7"/>
              </a:solidFill>
              <a:latin typeface="Tahoma"/>
            </a:endParaRPr>
          </a:p>
        </p:txBody>
      </p:sp>
      <p:pic>
        <p:nvPicPr>
          <p:cNvPr id="115" name="Picture 4" descr="aabjvkya"/>
          <p:cNvPicPr/>
          <p:nvPr/>
        </p:nvPicPr>
        <p:blipFill>
          <a:blip r:embed="rId1"/>
          <a:stretch/>
        </p:blipFill>
        <p:spPr>
          <a:xfrm>
            <a:off x="914400" y="1143000"/>
            <a:ext cx="7450200" cy="507996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80B4-B96E-49DA-B5E9-E5A5C5839A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SOLUBILITY GRAPH OF GASES IN WATER</a:t>
            </a:r>
            <a:endParaRPr b="0" lang="en-US" sz="3200" spc="-1" strike="noStrike">
              <a:solidFill>
                <a:srgbClr val="c5d1d7"/>
              </a:solidFill>
              <a:latin typeface="Tahoma"/>
            </a:endParaRPr>
          </a:p>
        </p:txBody>
      </p:sp>
      <p:pic>
        <p:nvPicPr>
          <p:cNvPr id="119" name="Picture 4" descr="aabjvkza"/>
          <p:cNvPicPr/>
          <p:nvPr/>
        </p:nvPicPr>
        <p:blipFill>
          <a:blip r:embed="rId1"/>
          <a:stretch/>
        </p:blipFill>
        <p:spPr>
          <a:xfrm>
            <a:off x="1295280" y="1066680"/>
            <a:ext cx="6789960" cy="45259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304920" y="5562720"/>
            <a:ext cx="883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ressure has little effect on the solubility of liquids and solids. The solubility of gases is strongly influenced by pressure. Gases dissolve more at high pressur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2719-3D69-47C0-8BEA-A15D152B2A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SOLUBILITY OF COMMON IONS IN WATER</a:t>
            </a:r>
            <a:endParaRPr b="0" lang="en-US" sz="2800" spc="-1" strike="noStrike">
              <a:solidFill>
                <a:srgbClr val="c5d1d7"/>
              </a:solidFill>
              <a:latin typeface="Tahoma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rcRect l="0" t="4317" r="0" b="0"/>
          <a:stretch/>
        </p:blipFill>
        <p:spPr>
          <a:xfrm>
            <a:off x="457200" y="1295280"/>
            <a:ext cx="8305920" cy="4572000"/>
          </a:xfrm>
          <a:prstGeom prst="rect">
            <a:avLst/>
          </a:prstGeom>
          <a:ln w="38160">
            <a:solidFill>
              <a:srgbClr val="ff00ff"/>
            </a:solidFill>
            <a:prstDash val="lgDashDot"/>
            <a:miter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19:07:06Z</dcterms:created>
  <dc:creator>MOHAMMAD ALI</dc:creator>
  <dc:description/>
  <dc:language>en-US</dc:language>
  <cp:lastModifiedBy>RomaK</cp:lastModifiedBy>
  <dcterms:modified xsi:type="dcterms:W3CDTF">2015-09-02T06:02:49Z</dcterms:modified>
  <cp:revision>34</cp:revision>
  <dc:subject/>
  <dc:title>SOLUTIONS &amp; SOLUBILITIES</dc:title>
</cp:coreProperties>
</file>